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4389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EAC-3F77-464F-8C1C-99A43027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2962764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519-DC27-4D17-9D86-8040F6A8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7120" y="102394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DCA-D55D-4349-A90E-7BAAE007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954000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3280" y="10239480"/>
            <a:ext cx="954000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80640" y="10239480"/>
            <a:ext cx="954000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25370280"/>
            <a:ext cx="954000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3280" y="25370280"/>
            <a:ext cx="954000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80640" y="25370280"/>
            <a:ext cx="954000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137-370B-463E-95DF-19FD6D3F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10239480"/>
            <a:ext cx="29627640" cy="28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120-2111-4DCA-B4E3-72E429F9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29627640" cy="28968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5CE-42DB-4AD8-BAEB-819C9BAA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14457960" cy="28968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7120" y="10239480"/>
            <a:ext cx="14457960" cy="28968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AA9-D405-4F8C-9F62-B70CC0EC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052-EDB9-4B1C-B165-6DAAEBF6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1755720"/>
            <a:ext cx="2962764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460-C89E-41DE-95EB-604990B6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7120" y="10239480"/>
            <a:ext cx="14457960" cy="28968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B86-7128-4B2B-8973-11C9043F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14457960" cy="28968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7120" y="102394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340-1B4B-489C-9A7D-4F5F346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7120" y="102394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6BA-BEBE-4F19-AC03-8B323F1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5920" y="10239480"/>
            <a:ext cx="29627640" cy="28968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4480" indent="-16444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  <a:p>
            <a:pPr lvl="4" marL="98740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  <a:p>
            <a:pPr lvl="5" marL="98740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  <a:p>
            <a:pPr lvl="6" marL="98740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5920" y="406810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lstStyle>
            <a:lvl1pPr indent="0">
              <a:buNone/>
              <a:tabLst>
                <a:tab algn="l" pos="0"/>
                <a:tab algn="l" pos="4387680"/>
                <a:tab algn="l" pos="8775720"/>
              </a:tabLst>
              <a:defRPr b="0" lang="en-US" sz="58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58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120" y="40681080"/>
            <a:ext cx="10425240" cy="2336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520" y="406810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lstStyle>
            <a:lvl1pPr indent="0" algn="r">
              <a:buNone/>
              <a:tabLst>
                <a:tab algn="l" pos="0"/>
                <a:tab algn="l" pos="4387680"/>
                <a:tab algn="l" pos="8775720"/>
              </a:tabLst>
              <a:defRPr b="0" lang="en-US" sz="58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387680"/>
                <a:tab algn="l" pos="8775720"/>
              </a:tabLst>
            </a:pPr>
            <a:fld id="{CAAB53CC-F715-4A3D-AF99-1529C0A53F01}" type="slidenum">
              <a:rPr b="0" lang="en-US" sz="58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-7920" y="0"/>
            <a:ext cx="32926320" cy="7467480"/>
          </a:xfrm>
          <a:prstGeom prst="rect">
            <a:avLst/>
          </a:prstGeom>
          <a:solidFill>
            <a:srgbClr val="4f26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87680"/>
                <a:tab algn="l" pos="8775720"/>
              </a:tabLst>
            </a:pPr>
            <a:r>
              <a:rPr b="0" lang="en-US" sz="8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39493800"/>
            <a:ext cx="3291840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87680"/>
                <a:tab algn="l" pos="877572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3714840" y="4268880"/>
            <a:ext cx="2526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 font is Arial, Size is 44: Names of research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artment, Schulich School of Medicine &amp; Dentistry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ern University, London, ON, Can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171880" y="1625760"/>
            <a:ext cx="28575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Title of Research Poster goes here. </a:t>
            </a:r>
            <a:br>
              <a:rPr sz="7500"/>
            </a:b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Type is Arial Bold 75pt.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828800" y="1625760"/>
            <a:ext cx="4462560" cy="4582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27516240" y="1625760"/>
            <a:ext cx="3423960" cy="458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21393000" y="40233600"/>
            <a:ext cx="95472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9:57:56Z</dcterms:created>
  <dc:creator>Administrator</dc:creator>
  <dc:description/>
  <dc:language>en-US</dc:language>
  <cp:lastModifiedBy>Giovanni Foco</cp:lastModifiedBy>
  <dcterms:modified xsi:type="dcterms:W3CDTF">2019-03-14T14:04:18Z</dcterms:modified>
  <cp:revision>38</cp:revision>
  <dc:subject/>
  <dc:title>PowerPoint Presentation</dc:title>
</cp:coreProperties>
</file>